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EEF-B10D-48CC-A601-ADD74A70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D37-5EAF-401C-B604-FC8A1390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48E9-B8FD-45A4-83FD-10892FB2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E37-6186-4D06-8ED7-7B48FBC1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569-4ECA-46A5-8CFC-12A5EFF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F7C-22FC-44C5-8447-40258FA9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0BF-9C4D-4733-B667-048B8563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21E-C91F-4F66-BA7D-094D2665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623-A766-4941-942C-2E4EECC7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0AE-37FB-4DCE-A8E8-9B3F35F0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78D-9197-4856-85D3-3E92925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D19D-003D-430E-B8B9-E173BC67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072-E068-4043-A9B3-5AE747835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ipe_BCD.html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/>
          </p:cNvPr>
          <p:cNvSpPr/>
          <p:nvPr/>
        </p:nvSpPr>
        <p:spPr>
          <a:xfrm>
            <a:off x="609480" y="1752480"/>
            <a:ext cx="1676520" cy="91440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752480"/>
            <a:ext cx="1067040" cy="990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1" lang="en-US" sz="1200" spc="-1" strike="noStrike">
                <a:solidFill>
                  <a:srgbClr val="000000"/>
                </a:solidFill>
                <a:latin typeface="ヒラギノ角ゴ ProN W3"/>
              </a:rPr>
              <a:t>_x0004_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D fits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1828800"/>
            <a:ext cx="1676160" cy="91440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182880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t.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429000"/>
            <a:ext cx="1676520" cy="99072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3429000"/>
            <a:ext cx="1067040" cy="990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2d.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D fits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505320"/>
            <a:ext cx="1676160" cy="91440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DD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35053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une.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304920"/>
            <a:ext cx="1066680" cy="99036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ヒラギノ角ゴ ProN W3"/>
              </a:rPr>
              <a:t>raw_x0004_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D fits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257800"/>
            <a:ext cx="1676520" cy="91440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KS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181480"/>
            <a:ext cx="1067040" cy="10670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ksub.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D fits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5257800"/>
            <a:ext cx="1676160" cy="914400"/>
          </a:xfrm>
          <a:prstGeom prst="bevel">
            <a:avLst>
              <a:gd name="adj" fmla="val 12500"/>
            </a:avLst>
          </a:prstGeom>
          <a:solidFill>
            <a:srgbClr val="e3a9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KSU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5257800"/>
            <a:ext cx="1066680" cy="990720"/>
          </a:xfrm>
          <a:custGeom>
            <a:avLst/>
            <a:gdLst>
              <a:gd name="textAreaLeft" fmla="*/ 0 w 1066680"/>
              <a:gd name="textAreaRight" fmla="*/ 1067040 w 10666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ksub.t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D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5" idx="0"/>
            <a:endCxn id="46" idx="2"/>
          </p:cNvCxnSpPr>
          <p:nvPr/>
        </p:nvCxnSpPr>
        <p:spPr>
          <a:xfrm>
            <a:off x="609480" y="3429000"/>
            <a:ext cx="2286360" cy="495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47" idx="0"/>
          </p:cNvCxnSpPr>
          <p:nvPr/>
        </p:nvCxnSpPr>
        <p:spPr>
          <a:xfrm flipV="1">
            <a:off x="3962520" y="3505320"/>
            <a:ext cx="914760" cy="457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/>
          <p:nvPr/>
        </p:nvCxnSpPr>
        <p:spPr>
          <a:xfrm>
            <a:off x="6553080" y="3962160"/>
            <a:ext cx="610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>
            <a:off x="2285640" y="2285640"/>
            <a:ext cx="6102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6553080" y="2285640"/>
            <a:ext cx="610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3962520" y="2285640"/>
            <a:ext cx="9151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/>
          <p:nvPr/>
        </p:nvCxnSpPr>
        <p:spPr>
          <a:xfrm>
            <a:off x="1447560" y="1295280"/>
            <a:ext cx="1080" cy="457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6" idx="3"/>
            <a:endCxn id="50" idx="0"/>
          </p:cNvCxnSpPr>
          <p:nvPr/>
        </p:nvCxnSpPr>
        <p:spPr>
          <a:xfrm rot="5400000">
            <a:off x="1600200" y="3429000"/>
            <a:ext cx="838440" cy="2819880"/>
          </a:xfrm>
          <a:prstGeom prst="bentConnector3">
            <a:avLst>
              <a:gd name="adj1" fmla="val 49613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/>
          <p:nvPr/>
        </p:nvCxnSpPr>
        <p:spPr>
          <a:xfrm rot="5400000">
            <a:off x="2094840" y="2095200"/>
            <a:ext cx="686520" cy="1981800"/>
          </a:xfrm>
          <a:prstGeom prst="bentConnector3">
            <a:avLst>
              <a:gd name="adj1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4"/>
            <a:endCxn id="52" idx="0"/>
          </p:cNvCxnSpPr>
          <p:nvPr/>
        </p:nvCxnSpPr>
        <p:spPr>
          <a:xfrm flipV="1">
            <a:off x="3962520" y="5257800"/>
            <a:ext cx="914760" cy="457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/>
          <p:nvPr/>
        </p:nvCxnSpPr>
        <p:spPr>
          <a:xfrm>
            <a:off x="2285640" y="5714640"/>
            <a:ext cx="6102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6553080" y="5714640"/>
            <a:ext cx="610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22:14:33Z</dcterms:created>
  <dc:creator>Office 2004 Test Drive User</dc:creator>
  <dc:description/>
  <cp:keywords/>
  <dc:language>en-US</dc:language>
  <cp:lastModifiedBy>Office 2004 Test Drive User</cp:lastModifiedBy>
  <dcterms:modified xsi:type="dcterms:W3CDTF">2009-09-18T23:14:10Z</dcterms:modified>
  <cp:revision>1</cp:revision>
  <dc:subject/>
  <dc:title>PowerPoint Presentation</dc:title>
</cp:coreProperties>
</file>